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1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20.jpeg" ContentType="image/jpeg"/>
  <Override PartName="/ppt/media/image19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5.png" ContentType="image/png"/>
  <Override PartName="/ppt/media/image14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4FFF-CDF3-4BFE-8F63-4C15CA89A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3FFA-B611-452B-A939-E2610EE69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C337-9CA0-49F7-92D8-2EC3CF3A6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A152-B62A-4F5F-B3DC-3892BA2B4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EA962-D987-4872-A996-C3039E60D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D48BB-EFD4-4704-B962-F65FA2D54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05DF6-E0E9-4C76-A997-41B944265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17702-9EFD-4165-8EFA-2D6EC7A36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2BE48-052E-41BA-A87B-2C6A34E98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14ECA-00D4-40D0-927F-E156C96BE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0226C-3E4B-40FC-9668-E0CF54EC6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2BAB-75CC-4483-A3AB-6DD498ECA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5D043-E6E2-42EC-8588-6C1F7B790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540B0-0DCB-4CBF-8819-1DCFC0152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97940-38A4-4A10-8521-0502792DD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04B68-1F6D-4531-9AFE-BDD06B646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0E4A5-AC71-4E86-8ACC-8E0B95ABE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DCD3-D6D2-4346-A187-81D628B80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6F58-3233-450D-ACDB-5E638DE4F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68B4-3BBC-40E2-9169-5843AF56D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0DC3-7D15-44A3-ABEC-7207947D7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A2F0-70C6-466E-AAD4-14889FF09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A349-E171-4CB8-B051-659CC805B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7BFF-3682-4A51-9BD2-1B8228244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E77B5-640B-4362-AFF7-9B6298FBBCEA}" type="slidenum">
              <a:rPr b="0" lang="en-US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641C3-CD3D-4A9A-B58E-7CC447809081}" type="slidenum">
              <a:rPr b="0" lang="en-US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Title 1" descr=""/>
          <p:cNvPicPr/>
          <p:nvPr/>
        </p:nvPicPr>
        <p:blipFill>
          <a:blip r:embed="rId1"/>
          <a:stretch/>
        </p:blipFill>
        <p:spPr>
          <a:xfrm>
            <a:off x="371520" y="268200"/>
            <a:ext cx="8504280" cy="11588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an Morga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Title 1" descr=""/>
          <p:cNvPicPr/>
          <p:nvPr/>
        </p:nvPicPr>
        <p:blipFill>
          <a:blip r:embed="rId1"/>
          <a:stretch/>
        </p:blipFill>
        <p:spPr>
          <a:xfrm>
            <a:off x="603360" y="5383080"/>
            <a:ext cx="7785000" cy="169416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1219320" y="22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 Buddhist center of prayer and study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16" name="Picture 6" descr="http://t2.gstatic.com/images?q=tbn:ANd9GcTekW6doWqhzHgv0Yh1d_2wy0PeOAL3HCvDnCxyEWlA0lZqbn-d"/>
          <p:cNvPicPr/>
          <p:nvPr/>
        </p:nvPicPr>
        <p:blipFill>
          <a:blip r:embed="rId2"/>
          <a:stretch/>
        </p:blipFill>
        <p:spPr>
          <a:xfrm>
            <a:off x="2362320" y="1254240"/>
            <a:ext cx="2733480" cy="41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Title 1" descr=""/>
          <p:cNvPicPr/>
          <p:nvPr/>
        </p:nvPicPr>
        <p:blipFill>
          <a:blip r:embed="rId1"/>
          <a:stretch/>
        </p:blipFill>
        <p:spPr>
          <a:xfrm>
            <a:off x="603360" y="5383080"/>
            <a:ext cx="7785000" cy="169416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219320" y="22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 large landmass that is part of a continent but distinct from i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2"/>
          <a:stretch/>
        </p:blipFill>
        <p:spPr>
          <a:xfrm>
            <a:off x="2905200" y="1514520"/>
            <a:ext cx="333360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Title 1" descr=""/>
          <p:cNvPicPr/>
          <p:nvPr/>
        </p:nvPicPr>
        <p:blipFill>
          <a:blip r:embed="rId1"/>
          <a:stretch/>
        </p:blipFill>
        <p:spPr>
          <a:xfrm>
            <a:off x="603360" y="5383080"/>
            <a:ext cx="7785000" cy="169416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1219320" y="22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 seasonal wind that blows for months  at a time, affecting the climat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89" name="Picture 6" descr="http://t3.gstatic.com/images?q=tbn:ANd9GcSqqZj1xI2OFHmMRaCZ76eDbwbV2DPkoIhA9qt2wIeaCIEP3JYF"/>
          <p:cNvPicPr/>
          <p:nvPr/>
        </p:nvPicPr>
        <p:blipFill>
          <a:blip r:embed="rId2"/>
          <a:stretch/>
        </p:blipFill>
        <p:spPr>
          <a:xfrm>
            <a:off x="2819520" y="1893960"/>
            <a:ext cx="2752560" cy="31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Title 1" descr=""/>
          <p:cNvPicPr/>
          <p:nvPr/>
        </p:nvPicPr>
        <p:blipFill>
          <a:blip r:embed="rId1"/>
          <a:stretch/>
        </p:blipFill>
        <p:spPr>
          <a:xfrm>
            <a:off x="603360" y="5383080"/>
            <a:ext cx="7785000" cy="169416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1219320" y="22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 plant fiber used for making rope, burlap, bags, etc…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2" name="Picture 6" descr="http://t1.gstatic.com/images?q=tbn:ANd9GcRROnMB_ATWjplEUW-M_VsvVCzRyRtONuLMS1ByaWIKeC6iNOlc"/>
          <p:cNvPicPr/>
          <p:nvPr/>
        </p:nvPicPr>
        <p:blipFill>
          <a:blip r:embed="rId2"/>
          <a:stretch/>
        </p:blipFill>
        <p:spPr>
          <a:xfrm>
            <a:off x="2209680" y="1828800"/>
            <a:ext cx="4038840" cy="35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Title 1" descr=""/>
          <p:cNvPicPr/>
          <p:nvPr/>
        </p:nvPicPr>
        <p:blipFill>
          <a:blip r:embed="rId1"/>
          <a:stretch/>
        </p:blipFill>
        <p:spPr>
          <a:xfrm>
            <a:off x="603360" y="5383080"/>
            <a:ext cx="7881840" cy="169416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219320" y="22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 home or village based industry where family  members make their own good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5" name="Picture 6" descr="http://t3.gstatic.com/images?q=tbn:ANd9GcQJfPc1m-WPsUTg0I3Vps6viiPLaOp_7dqfp4PIZ5Erc1qD5VQJ"/>
          <p:cNvPicPr/>
          <p:nvPr/>
        </p:nvPicPr>
        <p:blipFill>
          <a:blip r:embed="rId2"/>
          <a:stretch/>
        </p:blipFill>
        <p:spPr>
          <a:xfrm>
            <a:off x="2666880" y="2035080"/>
            <a:ext cx="3429000" cy="35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Title 1" descr=""/>
          <p:cNvPicPr/>
          <p:nvPr/>
        </p:nvPicPr>
        <p:blipFill>
          <a:blip r:embed="rId1"/>
          <a:stretch/>
        </p:blipFill>
        <p:spPr>
          <a:xfrm>
            <a:off x="603360" y="5383080"/>
            <a:ext cx="7785000" cy="169416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219320" y="22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Your social class that is based on your ancestors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8" name="Picture 6" descr="http://t1.gstatic.com/images?q=tbn:ANd9GcSKEuyhU56STeSoPU_6-oc_xvxxUGIlNSJNdnHEWOhMsHLZlmodNQ"/>
          <p:cNvPicPr/>
          <p:nvPr/>
        </p:nvPicPr>
        <p:blipFill>
          <a:blip r:embed="rId2"/>
          <a:stretch/>
        </p:blipFill>
        <p:spPr>
          <a:xfrm>
            <a:off x="2286000" y="1863720"/>
            <a:ext cx="4510080" cy="34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Title 1" descr=""/>
          <p:cNvPicPr/>
          <p:nvPr/>
        </p:nvPicPr>
        <p:blipFill>
          <a:blip r:embed="rId1"/>
          <a:stretch/>
        </p:blipFill>
        <p:spPr>
          <a:xfrm>
            <a:off x="603360" y="5383080"/>
            <a:ext cx="7785000" cy="16941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219320" y="22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 belief in the rebirth  of a person’s soul in a new body after death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1" name="Picture 6" descr="http://www.crystalitas.com/FR/_images/reincarnation_crystalitas_180x120.jpg"/>
          <p:cNvPicPr/>
          <p:nvPr/>
        </p:nvPicPr>
        <p:blipFill>
          <a:blip r:embed="rId2"/>
          <a:stretch/>
        </p:blipFill>
        <p:spPr>
          <a:xfrm>
            <a:off x="2286000" y="1828800"/>
            <a:ext cx="4267080" cy="35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itle 1" descr=""/>
          <p:cNvPicPr/>
          <p:nvPr/>
        </p:nvPicPr>
        <p:blipFill>
          <a:blip r:embed="rId1"/>
          <a:stretch/>
        </p:blipFill>
        <p:spPr>
          <a:xfrm>
            <a:off x="603360" y="5383080"/>
            <a:ext cx="7785000" cy="169416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219320" y="22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n intense storm system with heavy rain and high winds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4" name="Picture 6" descr="http://t3.gstatic.com/images?q=tbn:ANd9GcRrOT1PJHptlGlZrunPP3YGduaFjRkCAkBJqYSJuS0OFiBi9rFm"/>
          <p:cNvPicPr/>
          <p:nvPr/>
        </p:nvPicPr>
        <p:blipFill>
          <a:blip r:embed="rId2"/>
          <a:stretch/>
        </p:blipFill>
        <p:spPr>
          <a:xfrm>
            <a:off x="1839960" y="1752480"/>
            <a:ext cx="4941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Title 1" descr=""/>
          <p:cNvPicPr/>
          <p:nvPr/>
        </p:nvPicPr>
        <p:blipFill>
          <a:blip r:embed="rId1"/>
          <a:stretch/>
        </p:blipFill>
        <p:spPr>
          <a:xfrm>
            <a:off x="603360" y="5383080"/>
            <a:ext cx="7785000" cy="169416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1219320" y="22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Powerful chemicals that kill crop-destroying insects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7" name="AutoShape 6"/>
          <p:cNvSpPr/>
          <p:nvPr/>
        </p:nvSpPr>
        <p:spPr>
          <a:xfrm>
            <a:off x="52560" y="-635040"/>
            <a:ext cx="7617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AutoShape 8"/>
          <p:cNvSpPr/>
          <p:nvPr/>
        </p:nvSpPr>
        <p:spPr>
          <a:xfrm>
            <a:off x="52560" y="-635040"/>
            <a:ext cx="7617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AutoShape 10"/>
          <p:cNvSpPr/>
          <p:nvPr/>
        </p:nvSpPr>
        <p:spPr>
          <a:xfrm>
            <a:off x="52560" y="-635040"/>
            <a:ext cx="7617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AutoShape 12"/>
          <p:cNvSpPr/>
          <p:nvPr/>
        </p:nvSpPr>
        <p:spPr>
          <a:xfrm>
            <a:off x="52560" y="-635040"/>
            <a:ext cx="7617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AutoShape 14"/>
          <p:cNvSpPr/>
          <p:nvPr/>
        </p:nvSpPr>
        <p:spPr>
          <a:xfrm>
            <a:off x="52560" y="-635040"/>
            <a:ext cx="7617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AutoShape 16"/>
          <p:cNvSpPr/>
          <p:nvPr/>
        </p:nvSpPr>
        <p:spPr>
          <a:xfrm>
            <a:off x="52560" y="-1114560"/>
            <a:ext cx="12952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8" descr="http://t2.gstatic.com/images?q=tbn:ANd9GcTgOSRR6Knu69PVtmV8bEr6RDeFKRbcJISnhfnmdIRi6-qSDB6V"/>
          <p:cNvPicPr/>
          <p:nvPr/>
        </p:nvPicPr>
        <p:blipFill>
          <a:blip r:embed="rId2"/>
          <a:stretch/>
        </p:blipFill>
        <p:spPr>
          <a:xfrm>
            <a:off x="3352680" y="2011320"/>
            <a:ext cx="1981440" cy="32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8T15:45:15Z</dcterms:created>
  <dc:creator>poweruser</dc:creator>
  <dc:description/>
  <dc:language>en-US</dc:language>
  <cp:lastModifiedBy>BHISD</cp:lastModifiedBy>
  <dcterms:modified xsi:type="dcterms:W3CDTF">2011-12-09T15:53:07Z</dcterms:modified>
  <cp:revision>7</cp:revision>
  <dc:subject/>
  <dc:title>Chapter 5 – India Vocabulary</dc:title>
</cp:coreProperties>
</file>